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2C8A-8B11-449D-93BB-14889B7A947C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C28F-4CA9-4862-8DAB-F4161187E73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530C-3DA5-4377-88BB-91712AEEF7C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109B-D0DF-43F1-B609-79B75A9FB24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BE44-1121-4B88-922D-AF19F9F2188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214E-6F1B-4B13-AE2F-998684F1BCA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4A94-D422-4D27-92EE-4B85A278610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ACA4-7F57-4037-9713-AC86725B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F7E1-DE56-4E15-9613-0560F0A1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D345-6CC2-4309-A41D-F41A4912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28F2-3E93-4B37-ACB2-1709160B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2032-7C0A-469E-94A9-1ADFFA7C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4D19-7B3F-4737-89D0-040D037B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B005-14DD-48C0-B91D-40DEAA11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587A-24B9-47A6-8389-61520C9B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01E2-085D-46EA-AD74-93568899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FE49-3E18-4D20-BC91-AE4DBAFA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B99C-2F45-4BE3-B1B3-44CB5C14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0485-A007-4954-9E22-C6AFEA96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37C1-25F5-45A6-BDBC-0A9F73A9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23B1-0ACD-4747-BACE-23B51D5A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5062-9AD6-4B18-9B54-893AB893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2900-7AF4-40AC-9823-C24019F8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32B9-2463-4603-B54B-7256DD8A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4A50-1CDF-42AA-885A-714B4F27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E52A-3436-4952-A116-E48336C5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53BD-FF82-4D03-8585-1E3D5F29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2123-AC6E-4069-A7BD-DD580876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D541-0385-4E73-8034-E69291D9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30C6-8CD7-45D1-BB4F-240FE7B3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7452-EB0D-4534-B1FF-BCC7BB32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0E98-064B-446E-8E45-232AF29A171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62A7-5849-44A9-B98E-3F72667019B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8. – 9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6:05Z</dcterms:modified>
  <cp:revision>349</cp:revision>
  <dc:subject/>
  <dc:title>Slide 1</dc:title>
</cp:coreProperties>
</file>